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039-17F5-4BDE-9672-13E80E87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D24-D3FA-4E78-A097-F7B9C13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576-5D9A-4BCC-972B-06FE25A7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D0C-CB83-437B-999B-696DC581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BFC2-5FE0-4E2A-99D7-F03E0311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E7FB-4695-47B4-A0F5-0D03BBF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463-A0CF-409B-9C4E-84AB02B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64C-5BC1-417F-AEAC-23EF6F2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FE10-7DE1-4093-A329-602A7D92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71A9-AFF5-45F2-BC21-690509E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BED-0253-40EC-8940-DEDA0E2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0C4-09A0-4B13-B51B-25A2474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A1A7-6F0D-4434-88F3-6041A86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A440-80ED-456C-921A-3C6C3FC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298-C85F-41AE-BA2B-BD60217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7AC8-FEED-4315-9CFB-8D5F7CE5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81C1-5300-4040-9270-75DE0F10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3D6-25E6-44A0-8331-C215DA5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AF1-5407-4C04-8712-C789596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EF3-AED7-4D73-8D74-0E60093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06B-838F-42ED-A577-CD0AD7B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B64-B7C3-4E09-8CBB-958F3EC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D80-13E4-4BE1-98FE-B1F06E0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49C-A31A-4701-844C-4C8C77C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47F-D66C-474B-B18A-3E04EAC40A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F745-8C5A-4431-9DF4-1A025F68D4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Titration Curv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base titration cu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lot of the pH of a solution of acid (or base) against the volume of added base (or aci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89040" y="388764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ch curves are used to gain insight into the titra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47260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use titration curves to choose an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ppropriate indicato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hat will show when the titration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306-E73F-471C-AAB3-6627AB55569F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3392640"/>
            <a:ext cx="8001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77920" y="4191120"/>
                <a:ext cx="4873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2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E18-8A09-4C03-8872-5B8EE9CE064B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tration of a weak acid by a strong base gives a somewhat different cur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9718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 range of these titrations is shor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quivalence point will be on the basic sid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nce the salt produced contains the anion of a weak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gure 17.13 shows the curve for the titration of nicotinic acid with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FB5-89BF-4DF1-A553-2AF59F74D10C}" type="slidenum">
              <a:t>11</a:t>
            </a:fld>
          </a:p>
        </p:txBody>
      </p:sp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1000" y="1600200"/>
            <a:ext cx="8183520" cy="4952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3: Curve for the titration of a weak acid by a strong base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DBB-C9AE-489C-A0F2-705344C81FF8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87240" y="4495680"/>
            <a:ext cx="77695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t the equivalence point, equal molar amounts of acetic acid and sodium hydroxide react to give sodium ace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338-A118-42CB-9FD6-DFEA75FC038E}" type="slidenum">
              <a:t>13</a:t>
            </a:fld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87240" y="4421160"/>
            <a:ext cx="7769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rst, calculate the concentration of the acetate 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240" y="5183280"/>
            <a:ext cx="7769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is case, 25.0 mL of 0.10 M NaOH is needed to react with 25.0 mL of 0.10 M acetic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13C-0055-495F-8E38-FB2D9D72C7B1}" type="slidenum">
              <a:t>14</a:t>
            </a:fld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7240" y="4343400"/>
            <a:ext cx="776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molar amount of acetate ion formed equals the initial molar amount of acetic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8480" y="5302080"/>
                <a:ext cx="4364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L soln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rPr>
                            <m:lit/>
                            <m:nor/>
                          </m:rPr>
                          <m:t xml:space="preserve">mol acetate io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sol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29200" y="5389560"/>
                <a:ext cx="3139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 acetate 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654-37A3-4FA3-8843-179AFA833988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87240" y="4419720"/>
            <a:ext cx="7769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total volume of the solution is 50.0 mL. H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95360" y="5151600"/>
                <a:ext cx="8136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ar</m:t>
                    </m:r>
                    <m:r>
                      <m:rPr>
                        <m:lit/>
                        <m:nor/>
                      </m:rPr>
                      <m:t xml:space="preserve">concent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3E3-7B9D-4110-8EAF-1655691E3C14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25780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find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for the acetate ion to be 5.9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that the concentration of the hydroxide ion is 5.4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 pH is 8.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4343400"/>
            <a:ext cx="83059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hydrolysis of the acetate ion follows the method given in an earlier section of this chap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C1F-1181-4C57-8B6E-A64DA0F3DC23}" type="slidenum">
              <a:t>17</a:t>
            </a:fld>
          </a:p>
        </p:txBody>
      </p:sp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tration of a weak base with a strong acid is a reflection of our previous ex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68160" y="3314880"/>
            <a:ext cx="776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gure 17.14 shows the titration of N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with H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3754440"/>
            <a:ext cx="77691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is case, the pH declines slowly at first, then falls abruptly from about pH 7 to pH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Methyl red, which changes color from yellow at pH 6 to red at pH 4.8, is a possible ind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F73-0D1A-42CF-B7BB-775B655C944C}" type="slidenum">
              <a:t>18</a:t>
            </a:fld>
          </a:p>
        </p:txBody>
      </p:sp>
    </p:spTree>
  </p:cSld>
  <p:transition spd="med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4: Curve for the titration of a weak base by a strong acid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615-370A-4F6F-9188-510586479D65}" type="slidenum">
              <a:t>19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8954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ote that the pH changes slowly until the titration approaches the equivalenc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8862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equivalence point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the point in a titration when a stoichiometric amount of reactant has been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034-F8E7-4611-941E-20EF12301B0E}" type="slidenum">
              <a:t>2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Operational Skill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ing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ing the pH of a solution of a strong acid and a strong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ing the pH at the equivalence point in the titration of a weak cid with a strong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11D-BE33-4CCD-964C-2C7EDCF7D3AB}" type="slidenum">
              <a:t>20</a:t>
            </a:fld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240" y="456840"/>
            <a:ext cx="1828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Garamond"/>
              </a:rPr>
              <a:t>Figure 17.8: A pH meter reading NH</a:t>
            </a:r>
            <a:r>
              <a:rPr b="0" lang="en-US" sz="2800" spc="-1" strike="noStrike" baseline="-25000">
                <a:solidFill>
                  <a:srgbClr val="666699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666699"/>
                </a:solidFill>
                <a:latin typeface="Garamond"/>
              </a:rPr>
              <a:t>Cl.</a:t>
            </a:r>
            <a:r>
              <a:rPr b="0" lang="en-US" sz="1800" spc="-1" strike="noStrike">
                <a:solidFill>
                  <a:srgbClr val="666699"/>
                </a:solidFill>
                <a:latin typeface="Garamond"/>
              </a:rPr>
              <a:t>  </a:t>
            </a:r>
            <a:br>
              <a:rPr sz="1800"/>
            </a:br>
            <a:r>
              <a:rPr b="0" i="1" lang="en-US" sz="1800" spc="-1" strike="noStrike">
                <a:solidFill>
                  <a:srgbClr val="666699"/>
                </a:solidFill>
                <a:latin typeface="Garamond"/>
              </a:rPr>
              <a:t>Photo courtesy of American Color.</a:t>
            </a:r>
            <a:endParaRPr b="0" lang="en-US" sz="18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52800" y="380880"/>
            <a:ext cx="6858000" cy="57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52280" y="5851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Return to slide 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98E-DC26-42AE-A5C9-E8AC8F78771A}" type="slidenum">
              <a:t>21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" y="1371600"/>
            <a:ext cx="8629920" cy="5181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3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2: Curve for the titration of a strong acid by a strong base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200-0A46-43CF-B4F8-3345BB7313DD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8954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t the equivalence point, the pH of the solution is 7.0 because it contains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 salt, NaCl, that does not hydrolyz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3448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owever, the pH changes rapidly from a pH of about 3 to a pH of about 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8AE-84A2-4E2F-9BF9-58F86203D1D7}" type="slidenum">
              <a:t>4</a:t>
            </a:fld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972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o detect the equivalence point, you need 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-base indicato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that changes color within the pH range 3-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34196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henolphthalein can be used because it changes color in the pH range 8.2-10. (see Figure 16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2C1-2088-494A-9650-962DA9D1BAA9}" type="slidenum">
              <a:t>5</a:t>
            </a:fld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9520" y="3506760"/>
            <a:ext cx="8724600" cy="4113360"/>
            <a:chOff x="209520" y="3506760"/>
            <a:chExt cx="8724600" cy="4113360"/>
          </a:xfrm>
        </p:grpSpPr>
        <p:sp>
          <p:nvSpPr>
            <p:cNvPr id="113" name=""/>
            <p:cNvSpPr/>
            <p:nvPr/>
          </p:nvSpPr>
          <p:spPr>
            <a:xfrm>
              <a:off x="209520" y="3506760"/>
              <a:ext cx="84722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76bb4"/>
                  </a:solidFill>
                  <a:latin typeface="Arial"/>
                </a:rPr>
                <a:t>Because the reactants are a strong acid and a strong base, the reaction is essentially complet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462240" y="4802040"/>
                  <a:ext cx="84718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8CD-34E9-497D-8611-780DCC466721}" type="slidenum">
              <a:t>6</a:t>
            </a:fld>
          </a:p>
        </p:txBody>
      </p:sp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66720" y="346860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get the amounts of reactants by multiplying the volume of each (in liters) by their respective mola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2560" y="4800600"/>
            <a:ext cx="7851960" cy="1187280"/>
            <a:chOff x="682560" y="4800600"/>
            <a:chExt cx="7851960" cy="11872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82560" y="4800600"/>
                  <a:ext cx="785196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50</m:t>
                      </m:r>
                      <m:r>
                        <m:t xml:space="preserve">L</m:t>
                      </m:r>
                      <m:r>
                        <m:t xml:space="preserve">×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250</m:t>
                      </m:r>
                      <m:r>
                        <m:rPr>
                          <m:lit/>
                          <m:nor/>
                        </m:rPr>
                        <m:t xml:space="preserve"> mo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6800" y="5486400"/>
                  <a:ext cx="75787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00</m:t>
                      </m:r>
                      <m:r>
                        <m:t xml:space="preserve">L</m:t>
                      </m:r>
                      <m:r>
                        <m:t xml:space="preserve">×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100</m:t>
                      </m:r>
                      <m:r>
                        <m:rPr>
                          <m:lit/>
                          <m:nor/>
                        </m:rPr>
                        <m:t xml:space="preserve"> mo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6AA-7A64-46F0-AF5F-E96B27CBB6E9}" type="slidenum">
              <a:t>7</a:t>
            </a:fld>
          </a:p>
        </p:txBody>
      </p:sp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346860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ll of the 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acts, leaving an excess of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3962520"/>
            <a:ext cx="7202520" cy="1420560"/>
            <a:chOff x="914400" y="3962520"/>
            <a:chExt cx="7202520" cy="14205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7202520" cy="58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409920" y="4800600"/>
                  <a:ext cx="37530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00150 mol 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D33-F586-420C-9679-C88C27ABFB05}" type="slidenum">
              <a:t>8</a:t>
            </a:fld>
          </a:p>
        </p:txBody>
      </p:sp>
    </p:spTree>
  </p:cSld>
  <p:transition spd="med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3505320"/>
            <a:ext cx="80010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obtain the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oncentration by dividing the mol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by the total volume of solution (=0.0250 L + 0.0100 L=0.0350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2120" y="4916520"/>
                <a:ext cx="624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50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0 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2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4A7-6494-4256-9DDD-9122C8D8EF65}" type="slidenum">
              <a:t>9</a:t>
            </a:fld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8:01:09Z</dcterms:modified>
  <cp:revision>194</cp:revision>
  <dc:subject>Chapter 17</dc:subject>
  <dc:title>Acid-Base Equilibria</dc:title>
</cp:coreProperties>
</file>